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E97-C4AB-464F-ABD9-3A9C29D3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115-0B20-4778-91A8-F292D54D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D6B-14AC-4CA1-A39C-FE75919C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B184-8E19-472A-AE73-4BF690A2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0CC4-C736-4343-9493-DBD6428E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1496-3693-4C33-A2AC-4C61F7FB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251A-D2D5-4062-BDDD-49B7EE5B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1652-5323-4FD6-A089-343DE70F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761C-3BBD-49A0-999D-FDDA1670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F699-6843-4F2D-A9C7-50D918C7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F357-0F14-488F-B5DA-3CD4C84B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8EBB-BF31-4DC8-B6B4-0A1CD67C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3ABC-F863-49DF-B3C3-7DAF232F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EC0F-78DF-4B03-A1B7-8670F936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01D4-CA74-4864-8FA0-EE3C1F32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AC10-345D-436F-B667-4F6CBAFE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4E75-96EC-489C-9D56-EFDD5A69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6C2-3104-4DC2-BE6D-B681D7BB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777-05BF-4D44-9BB0-A215D674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DCAB-307E-4CBB-853C-6135EC24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0026-E7D7-4D92-B217-07BB9D4C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3A0-A61E-4C1F-9A81-FBDC9424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042-8EAD-4CB6-91BC-B0CFCD90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03A-2940-4FB7-BE44-768F66D9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FDEC-A1A1-4757-A395-89397CBD576E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1889-9B66-4178-BC0B-A3129E67794D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eteproject.org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5400" spc="-1" strike="noStrike">
                <a:solidFill>
                  <a:srgbClr val="b9efee"/>
                </a:solidFill>
                <a:latin typeface="Garamond"/>
              </a:rPr>
              <a:t>POÉTE</a:t>
            </a:r>
            <a:br>
              <a:rPr sz="5400"/>
            </a:br>
            <a:r>
              <a:rPr b="1" lang="nb-NO" sz="5400" spc="-1" strike="noStrike">
                <a:solidFill>
                  <a:srgbClr val="b9efee"/>
                </a:solidFill>
                <a:latin typeface="Garamond"/>
              </a:rPr>
              <a:t>Leonardo da Vinci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Lifelong Learning pr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Tanker etter seminar i Frankrike, Norge og Fin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Ingvild Espelien og Bente Ry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b9efee"/>
                </a:solidFill>
                <a:latin typeface="Garamond"/>
              </a:rPr>
              <a:t>Tanken ba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Dette er ett arbeidsverktøy for praktisk øving i arbeidsliv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Å få kompetente studenter klare for arbeidsliv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Å la studenten få eierforhold til læring og vurde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Å ha gode bevis på  hva studenten har gjennomgått av opplæring/ tr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b9efee"/>
                </a:solidFill>
                <a:latin typeface="Garamond"/>
              </a:rPr>
              <a:t>Portefolio of eviden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Bevis på kompetan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En mappe/ samling med dokumenter og lignende som beviser hva eleven har gj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som dem kunstnere bruker sammen med c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Læringsverktø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Hjelper eleven til å læ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læreren til å vurdere både underveis og til slut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b9efee"/>
                </a:solidFill>
                <a:latin typeface="Garamond"/>
              </a:rPr>
              <a:t>Portefolio of eviden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Kan innehol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Dagbok/ logg og case/ histori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Prosjek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Profesjonelle diskusjon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Vitneforklaringer (eks fra arbeidsgiver el lære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Skjemaer med kriterier/ kompetansemå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Bild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Fil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Andre form for bevis på kompetanse (eks ferdige arbeider, resultate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b9efee"/>
                </a:solidFill>
                <a:latin typeface="Garamond"/>
              </a:rPr>
              <a:t>Læringsprosessen – hvor er vi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303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ffff"/>
                </a:solidFill>
                <a:latin typeface="Garamond"/>
              </a:rPr>
              <a:t>Lærer underviser elev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ffff"/>
                </a:solidFill>
                <a:latin typeface="Garamond"/>
              </a:rPr>
              <a:t>Tavleundervis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cc00"/>
                </a:solidFill>
                <a:latin typeface="Garamond"/>
              </a:rPr>
              <a:t>Lær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b-NO" sz="2400" spc="-1" strike="noStrike">
                <a:solidFill>
                  <a:srgbClr val="ffffff"/>
                </a:solidFill>
                <a:latin typeface="Garamond"/>
              </a:rPr>
              <a:t>Læreren tilrettelegg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ffff"/>
                </a:solidFill>
                <a:latin typeface="Garamond"/>
              </a:rPr>
              <a:t>Læringen er elevsentre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492360" y="1773360"/>
            <a:ext cx="2016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ffff"/>
                </a:solidFill>
                <a:latin typeface="Garamond"/>
              </a:rPr>
              <a:t>Avhengi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0066"/>
                </a:solidFill>
                <a:latin typeface="Garamond"/>
              </a:rPr>
              <a:t>Ele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b-NO" sz="2400" spc="-1" strike="noStrike">
                <a:solidFill>
                  <a:srgbClr val="ffffff"/>
                </a:solidFill>
                <a:latin typeface="Garamond"/>
              </a:rPr>
              <a:t>Uavhengi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651640" y="1773360"/>
            <a:ext cx="30351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ffff"/>
                </a:solidFill>
                <a:latin typeface="Garamond"/>
              </a:rPr>
              <a:t>Tradisjonell undervis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ffff"/>
                </a:solidFill>
                <a:latin typeface="Garamond"/>
              </a:rPr>
              <a:t>Arbeidsbasert læring med utvikling av ferdigheter og kunnsk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4284720" y="27813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1619280" y="2852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1619280" y="429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4284720" y="4365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7020000" y="2852640"/>
            <a:ext cx="485640" cy="2232000"/>
          </a:xfrm>
          <a:prstGeom prst="downArrow">
            <a:avLst>
              <a:gd name="adj1" fmla="val 50000"/>
              <a:gd name="adj2" fmla="val 1149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b9efee"/>
                </a:solidFill>
                <a:latin typeface="Garamond"/>
              </a:rPr>
              <a:t>Gjennomføring av dette bety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Læreren  blir organisator i stedet for instruktø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Eleven får større ansvar og eierforhold for egen læ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Eleven lærer å lære selv – livslang læ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Arbeidsgiver i utplassering og lærlingested må ta aktivt del i opplær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http://www.poeteproject.o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b9efee"/>
                </a:solidFill>
                <a:latin typeface="Garamond"/>
              </a:rPr>
              <a:t>På Skjetlei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PTF – dokumentasj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Samarbeid mellom norsklærere (eventuelt engelsklærere) og PTF - lærere mht til å bruke tid på å få struktur på sin </a:t>
            </a:r>
            <a:r>
              <a:rPr b="0" i="1" lang="nb-NO" sz="3200" spc="-1" strike="noStrike">
                <a:solidFill>
                  <a:srgbClr val="ffffff"/>
                </a:solidFill>
                <a:latin typeface="Garamond"/>
              </a:rPr>
              <a:t>portfolio of evid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Bruker fronter som arena for innlevering og veiledning underveis i arbeidet med mapp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Vi har kommet lengre enn mange andre land i dette arbeide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07:38:46Z</dcterms:created>
  <dc:creator>Bente Ryen</dc:creator>
  <dc:description/>
  <dc:language>en-US</dc:language>
  <cp:lastModifiedBy>benry</cp:lastModifiedBy>
  <dcterms:modified xsi:type="dcterms:W3CDTF">2011-01-28T08:34:18Z</dcterms:modified>
  <cp:revision>11</cp:revision>
  <dc:subject/>
  <dc:title>POÉTE Leonardo da Vinci</dc:title>
</cp:coreProperties>
</file>